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wmf" ContentType="image/x-wmf"/>
  <Override PartName="/ppt/media/image19.png" ContentType="image/png"/>
  <Override PartName="/ppt/media/image40.wmf" ContentType="image/x-wmf"/>
  <Override PartName="/ppt/media/image35.png" ContentType="image/png"/>
  <Override PartName="/ppt/media/image33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39.png" ContentType="image/png"/>
  <Override PartName="/ppt/media/image61.wmf" ContentType="image/x-wmf"/>
  <Override PartName="/ppt/media/image17.wmf" ContentType="image/x-wmf"/>
  <Override PartName="/ppt/media/image5.wmf" ContentType="image/x-wmf"/>
  <Override PartName="/ppt/media/image82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23.wmf" ContentType="image/x-wmf"/>
  <Override PartName="/ppt/media/image62.png" ContentType="image/png"/>
  <Override PartName="/ppt/media/image60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26.png" ContentType="image/png"/>
  <Override PartName="/ppt/media/image67.wmf" ContentType="image/x-wmf"/>
  <Override PartName="/ppt/media/image68.wmf" ContentType="image/x-wmf"/>
  <Override PartName="/ppt/media/image71.wmf" ContentType="image/x-wmf"/>
  <Override PartName="/ppt/media/image1.png" ContentType="image/png"/>
  <Override PartName="/ppt/media/image69.png" ContentType="image/png"/>
  <Override PartName="/ppt/media/image72.wmf" ContentType="image/x-wmf"/>
  <Override PartName="/ppt/media/image2.png" ContentType="image/png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11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79.wmf" ContentType="image/x-wmf"/>
  <Override PartName="/ppt/media/image80.wmf" ContentType="image/x-wmf"/>
  <Override PartName="/ppt/media/image78.wmf" ContentType="image/x-wmf"/>
  <Override PartName="/ppt/media/image73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32.wmf" ContentType="image/x-wmf"/>
  <Override PartName="/ppt/media/image14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5.png" ContentType="image/png"/>
  <Override PartName="/ppt/media/image84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AC0-F913-4D14-A619-67F1FF70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372-A260-4861-8E06-1209F18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4CB-5B7C-4890-A3BE-0208316A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E8B-2AB5-4915-9622-BC1FFC4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F0E-540C-43E3-B469-0C506565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1DE-ABCB-4BB4-BA85-7EFD43C8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BF9-CD96-479C-A206-32A6907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93D-0679-49A4-9AF9-78A4E53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A73-86E3-492C-93DE-9F8868DB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C47-DB6C-410F-A415-09B2CFA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CF7-05B1-4BEF-8C10-E9AAD90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D8A-1526-4238-BA0A-1943369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A80-FB78-4A00-B965-8CF5F5EFA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image" Target="../media/image4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47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8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7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79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0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2.wmf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wmf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2.wmf"/><Relationship Id="rId9" Type="http://schemas.openxmlformats.org/officeDocument/2006/relationships/image" Target="../media/image9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8.wmf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9280" y="765360"/>
            <a:ext cx="749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s                     and                   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s o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the x-axis, as shown in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values of  a  and 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d the acut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two given li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4336920" y="48718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903840" y="3106800"/>
          <a:ext cx="664920" cy="3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3840" y="3106800"/>
                    <a:ext cx="664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514440" y="4397400"/>
            <a:ext cx="231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supplement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7320" y="4402080"/>
          <a:ext cx="229716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7320" y="4402080"/>
                    <a:ext cx="22971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6046920" y="846000"/>
            <a:ext cx="2676240" cy="21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1655640" y="816120"/>
          <a:ext cx="12891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55640" y="816120"/>
                    <a:ext cx="12891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571920" y="811080"/>
          <a:ext cx="121752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920" y="811080"/>
                    <a:ext cx="121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84200" y="3078000"/>
            <a:ext cx="3214800" cy="395280"/>
            <a:chOff x="484200" y="3078000"/>
            <a:chExt cx="3214800" cy="395280"/>
          </a:xfrm>
        </p:grpSpPr>
        <p:sp>
          <p:nvSpPr>
            <p:cNvPr id="273" name=""/>
            <p:cNvSpPr/>
            <p:nvPr/>
          </p:nvSpPr>
          <p:spPr>
            <a:xfrm>
              <a:off x="484200" y="3105000"/>
              <a:ext cx="32148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gradient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249640" y="3078000"/>
            <a:ext cx="1289160" cy="39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49640" y="3078000"/>
                      <a:ext cx="12891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500040" y="3747960"/>
            <a:ext cx="3214800" cy="384120"/>
            <a:chOff x="500040" y="3747960"/>
            <a:chExt cx="3214800" cy="384120"/>
          </a:xfrm>
        </p:grpSpPr>
        <p:sp>
          <p:nvSpPr>
            <p:cNvPr id="277" name=""/>
            <p:cNvSpPr/>
            <p:nvPr/>
          </p:nvSpPr>
          <p:spPr>
            <a:xfrm>
              <a:off x="500040" y="3763800"/>
              <a:ext cx="32148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gradient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8" name=""/>
            <p:cNvGraphicFramePr/>
            <p:nvPr/>
          </p:nvGraphicFramePr>
          <p:xfrm>
            <a:off x="2365560" y="3747960"/>
            <a:ext cx="1217520" cy="382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5560" y="3747960"/>
                      <a:ext cx="121752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0" name=""/>
          <p:cNvGraphicFramePr/>
          <p:nvPr/>
        </p:nvGraphicFramePr>
        <p:xfrm>
          <a:off x="3903840" y="3763800"/>
          <a:ext cx="772920" cy="32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03840" y="3763800"/>
                    <a:ext cx="772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039640" y="3087720"/>
            <a:ext cx="90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313320" y="3111480"/>
          <a:ext cx="2489400" cy="370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13320" y="3111480"/>
                    <a:ext cx="2489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5052240" y="3768840"/>
            <a:ext cx="90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b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229440" y="3792600"/>
          <a:ext cx="2682720" cy="369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29440" y="3792600"/>
                    <a:ext cx="268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96800" y="5064120"/>
            <a:ext cx="271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two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21400" y="439416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gle sum triangle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49880" y="50007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22920" y="701640"/>
            <a:ext cx="2141640" cy="1817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20840" y="911160"/>
            <a:ext cx="62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angle ABC  has vertices A(–1, 6), B(–3, –2) and C(5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the equation of the lin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median from C of triangle A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the equation of the lin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the co-ordinates of the point of intersection of the lines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499080" y="5052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84200" y="2747880"/>
            <a:ext cx="238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A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0040" y="3306600"/>
            <a:ext cx="2155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51080" y="3298680"/>
          <a:ext cx="62244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1080" y="3298680"/>
                    <a:ext cx="622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03600" y="275904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0920" y="2725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2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1200" y="3908520"/>
            <a:ext cx="238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B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68640" y="3886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03600" y="3903840"/>
            <a:ext cx="214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62680" y="3718080"/>
          <a:ext cx="68760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62680" y="3718080"/>
                    <a:ext cx="68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794640" y="2763720"/>
          <a:ext cx="644400" cy="324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94640" y="2763720"/>
                    <a:ext cx="6444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539640" y="4527720"/>
            <a:ext cx="195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44720" y="4551480"/>
          <a:ext cx="795240" cy="32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4720" y="4551480"/>
                    <a:ext cx="795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503600" y="4540320"/>
            <a:ext cx="2156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908760" y="4532400"/>
          <a:ext cx="111456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08760" y="4532400"/>
                    <a:ext cx="11145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523800" y="5205240"/>
            <a:ext cx="48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p and q simultaneously for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30680" y="5162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" y="677520"/>
            <a:ext cx="595800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angle ABC has vertices A(2, 2), B(12, 2) and C(8, 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Write down the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Find the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A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Find the point of intersection of lin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)  Hence find the equation of the circle passing through A, B and 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499000" y="525132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2373480" y="2624040"/>
          <a:ext cx="70632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3480" y="2624040"/>
                    <a:ext cx="706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poi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040" y="323532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A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6357960" y="925560"/>
            <a:ext cx="2521080" cy="1577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69560" y="3181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3600" y="3218040"/>
            <a:ext cx="214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919920" y="3032280"/>
          <a:ext cx="68724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19920" y="3032280"/>
                    <a:ext cx="687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129200" y="3800520"/>
            <a:ext cx="277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. of perp. bisector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075200" y="4890960"/>
          <a:ext cx="900000" cy="41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75200" y="4890960"/>
                    <a:ext cx="9000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96080" y="3813120"/>
            <a:ext cx="202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dient AC p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816280" y="3627360"/>
          <a:ext cx="880920" cy="71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16280" y="3627360"/>
                    <a:ext cx="8809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134120" y="3811680"/>
          <a:ext cx="135252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34120" y="3811680"/>
                    <a:ext cx="13525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527040" y="4381560"/>
            <a:ext cx="234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15800" y="4325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30640" y="4384800"/>
            <a:ext cx="28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he centre of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4932360"/>
            <a:ext cx="3273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intersection to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5445000"/>
            <a:ext cx="2125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814480" y="5380200"/>
          <a:ext cx="2400480" cy="50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4480" y="5380200"/>
                    <a:ext cx="2400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873840" y="2646360"/>
          <a:ext cx="600120" cy="324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73840" y="2646360"/>
                    <a:ext cx="6001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467160" y="2644920"/>
            <a:ext cx="321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ndicular bisector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942160" y="71136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49280" y="879120"/>
            <a:ext cx="595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triangle ABC has vertices A(–4, 1), B(12,3) and C(7, –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Find the equation of the median C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Find the equation of the altitude 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 Find the co-ordinates of the point of intersection of CM and 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6818400" y="4873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2373480" y="2624040"/>
          <a:ext cx="706320" cy="4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73480" y="2624040"/>
                    <a:ext cx="706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poi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0040" y="3235320"/>
            <a:ext cx="276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median C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3800520"/>
            <a:ext cx="3375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perpendicular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6080" y="3813120"/>
            <a:ext cx="1436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32240" y="3824280"/>
          <a:ext cx="66672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32240" y="3824280"/>
                    <a:ext cx="666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370640" y="3624120"/>
          <a:ext cx="879480" cy="716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70640" y="3624120"/>
                    <a:ext cx="879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527040" y="4381560"/>
            <a:ext cx="234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081840" y="2674800"/>
          <a:ext cx="792000" cy="324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1840" y="2674800"/>
                    <a:ext cx="792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467160" y="2657520"/>
            <a:ext cx="2460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CM (medi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463920" y="3191040"/>
          <a:ext cx="120348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63920" y="3191040"/>
                    <a:ext cx="12034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27040" y="5013360"/>
            <a:ext cx="501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simultaneously for 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5480" y="4943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3080" y="4379760"/>
          <a:ext cx="1576440" cy="398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43080" y="4379760"/>
                    <a:ext cx="1576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656320" y="812880"/>
            <a:ext cx="2971800" cy="1652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49280" y="385920"/>
            <a:ext cx="5958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triangle ABC has vertices A(–3, –3), B(–1, 1) and C(7,–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Show that the triangle ABC is right angled at B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medians AD and BE intersect at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)   Find the equations of AD and BE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Hence find the co-ordinates of 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7094520" y="4873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2394000" y="2692440"/>
          <a:ext cx="663480" cy="3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4000" y="2692440"/>
                    <a:ext cx="6634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0040" y="3235320"/>
            <a:ext cx="2300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of grad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6200" y="3786120"/>
            <a:ext cx="214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media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7880" y="3811680"/>
            <a:ext cx="125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d-poi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800360" y="3797280"/>
          <a:ext cx="657000" cy="40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00360" y="3797280"/>
                    <a:ext cx="6570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021280" y="3666960"/>
          <a:ext cx="601560" cy="62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1280" y="3666960"/>
                    <a:ext cx="6015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5927760" y="3801960"/>
            <a:ext cx="129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240160" y="2478240"/>
          <a:ext cx="878040" cy="71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40160" y="2478240"/>
                    <a:ext cx="878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467160" y="2657520"/>
            <a:ext cx="1558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903400" y="3119400"/>
          <a:ext cx="1401840" cy="615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3400" y="3119400"/>
                    <a:ext cx="14018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00040" y="5027760"/>
            <a:ext cx="511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simultaneously for M, 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375680" y="3800520"/>
          <a:ext cx="1376280" cy="35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75680" y="3800520"/>
                    <a:ext cx="137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4539240" y="323856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B is perpendicular to BC, so B =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16200" y="4335480"/>
            <a:ext cx="214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medi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7880" y="4361040"/>
            <a:ext cx="125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d-point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790640" y="4346640"/>
          <a:ext cx="676440" cy="40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90640" y="4346640"/>
                    <a:ext cx="6764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4937040" y="4216320"/>
          <a:ext cx="771480" cy="62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37040" y="4216320"/>
                    <a:ext cx="771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927760" y="4351320"/>
            <a:ext cx="129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334280" y="4349880"/>
          <a:ext cx="14587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334280" y="4349880"/>
                    <a:ext cx="1458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684760" y="4853160"/>
          <a:ext cx="809640" cy="688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84760" y="4853160"/>
                    <a:ext cx="80964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0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33072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5148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equation of the line which passes through the point (-1, 3) and is perpendicular to the line with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803920" y="1465200"/>
          <a:ext cx="168264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3920" y="1465200"/>
                    <a:ext cx="1682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78520" y="2444760"/>
            <a:ext cx="28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675240" y="2448000"/>
          <a:ext cx="479088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2448000"/>
                    <a:ext cx="4790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21000" y="3124080"/>
            <a:ext cx="327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erpendicul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89400" y="2990880"/>
          <a:ext cx="79056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9400" y="2990880"/>
                    <a:ext cx="790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46200" y="3921120"/>
            <a:ext cx="162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95600" y="3762360"/>
          <a:ext cx="5487840" cy="73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5600" y="3762360"/>
                    <a:ext cx="5487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505320" y="4859280"/>
          <a:ext cx="183492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4859280"/>
                    <a:ext cx="18349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5743440" y="465768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2360" y="95148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straight line which is parallel to the line with equation                         and which passes through the point (2, –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8520" y="2444760"/>
            <a:ext cx="28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0280" y="3124080"/>
            <a:ext cx="3439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parallel line is s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16480" y="2990880"/>
          <a:ext cx="995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6480" y="2990880"/>
                    <a:ext cx="995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46200" y="3921120"/>
            <a:ext cx="162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0200" y="3789360"/>
          <a:ext cx="441972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0200" y="3789360"/>
                    <a:ext cx="4419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720960" y="4859280"/>
          <a:ext cx="140184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0960" y="4859280"/>
                    <a:ext cx="1401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5743440" y="4657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97040" y="1455840"/>
          <a:ext cx="1508040" cy="41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7040" y="1455840"/>
                    <a:ext cx="15080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608280" y="2338560"/>
          <a:ext cx="5078520" cy="610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08280" y="2338560"/>
                    <a:ext cx="50785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120" y="2847960"/>
            <a:ext cx="262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the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49400" y="3525840"/>
          <a:ext cx="131292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9400" y="3525840"/>
                    <a:ext cx="13129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04880" y="4761000"/>
            <a:ext cx="2730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70200" y="4557600"/>
          <a:ext cx="2586240" cy="7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70200" y="4557600"/>
                    <a:ext cx="258624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732720" y="4627440"/>
            <a:ext cx="61884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654360" y="2644920"/>
          <a:ext cx="3579840" cy="76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4360" y="2644920"/>
                    <a:ext cx="357984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6373800" y="801720"/>
            <a:ext cx="2479680" cy="16938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84360" y="3697200"/>
            <a:ext cx="1866240" cy="372960"/>
            <a:chOff x="684360" y="3697200"/>
            <a:chExt cx="1866240" cy="372960"/>
          </a:xfrm>
        </p:grpSpPr>
        <p:sp>
          <p:nvSpPr>
            <p:cNvPr id="134" name=""/>
            <p:cNvSpPr/>
            <p:nvPr/>
          </p:nvSpPr>
          <p:spPr>
            <a:xfrm>
              <a:off x="684360" y="3701880"/>
              <a:ext cx="1866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325520" y="3697200"/>
            <a:ext cx="1055520" cy="308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25520" y="3697200"/>
                      <a:ext cx="105552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522360" y="7462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ize of the angle a° that the line join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(0, -1) and B(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 2) makes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irection of the x-ax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9280" y="645120"/>
            <a:ext cx="6057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nd B are the points (–3, –1) and (5, 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A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pendicular bisector of A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960" y="2847960"/>
            <a:ext cx="2579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the A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043760" y="2840040"/>
          <a:ext cx="131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43760" y="2840040"/>
                    <a:ext cx="131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47120" y="3673440"/>
            <a:ext cx="224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130560" y="3656160"/>
          <a:ext cx="66024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0560" y="3656160"/>
                    <a:ext cx="6602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5745240" y="4830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333600" y="2639880"/>
          <a:ext cx="77328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33600" y="2639880"/>
                    <a:ext cx="7732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84240" y="2846520"/>
            <a:ext cx="218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97920" y="3618000"/>
            <a:ext cx="241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dient of AB (per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288200" y="3394080"/>
          <a:ext cx="966960" cy="71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88200" y="3394080"/>
                    <a:ext cx="9669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74840" y="4416480"/>
            <a:ext cx="661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dient and mid-point to obtain perpendicular bisector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765600" y="5075280"/>
          <a:ext cx="1641600" cy="4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65600" y="5075280"/>
                    <a:ext cx="16416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5900760" y="674640"/>
            <a:ext cx="2755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280" y="667800"/>
            <a:ext cx="605772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AB makes an angle of         radians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,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xact value of the gradient of A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7760" y="2847960"/>
            <a:ext cx="370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gle between AB and x-ax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251320" y="4424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4595760" y="2668680"/>
          <a:ext cx="118116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95760" y="2668680"/>
                    <a:ext cx="11811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49280" y="4546440"/>
            <a:ext cx="2730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210200" y="843120"/>
          <a:ext cx="30636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0200" y="843120"/>
                    <a:ext cx="3063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6808680" y="803160"/>
            <a:ext cx="1938600" cy="17337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93840" y="3654360"/>
            <a:ext cx="1866240" cy="372960"/>
            <a:chOff x="393840" y="3654360"/>
            <a:chExt cx="1866240" cy="372960"/>
          </a:xfrm>
        </p:grpSpPr>
        <p:sp>
          <p:nvSpPr>
            <p:cNvPr id="192" name=""/>
            <p:cNvSpPr/>
            <p:nvPr/>
          </p:nvSpPr>
          <p:spPr>
            <a:xfrm>
              <a:off x="393840" y="3659040"/>
              <a:ext cx="1866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035000" y="3654360"/>
            <a:ext cx="1055520" cy="308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35000" y="3654360"/>
                      <a:ext cx="105552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2592360" y="3465360"/>
          <a:ext cx="1181160" cy="71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2360" y="3465360"/>
                    <a:ext cx="11811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549600" y="4340160"/>
          <a:ext cx="944640" cy="76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49600" y="4340160"/>
                    <a:ext cx="944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934600" y="2846520"/>
            <a:ext cx="30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and y axes are perpendi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9280" y="9064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iangle ABC has vertices A(4, 3), B(6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(–2, –3)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AM, the median from 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60" y="28479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506920" y="4397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3287880" y="2882880"/>
          <a:ext cx="7300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87880" y="2882880"/>
                    <a:ext cx="730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50000" y="4546440"/>
            <a:ext cx="30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median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760" y="3659040"/>
            <a:ext cx="3271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median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41720" y="3651120"/>
          <a:ext cx="73044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41720" y="3651120"/>
                    <a:ext cx="7304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040280" y="4551480"/>
          <a:ext cx="109512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40280" y="4551480"/>
                    <a:ext cx="1095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12"/>
          <a:stretch/>
        </p:blipFill>
        <p:spPr>
          <a:xfrm>
            <a:off x="6076800" y="851040"/>
            <a:ext cx="25401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49280" y="9082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–4, 5), Q(–2, –2) and R(4, 1) are the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riangle PQR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PS, the altitude from 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4360" y="284796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Q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442200" y="4397400"/>
            <a:ext cx="61884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905280" y="2681280"/>
          <a:ext cx="685800" cy="71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5280" y="2681280"/>
                    <a:ext cx="685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878400" y="4546440"/>
            <a:ext cx="298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altitude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7160" y="3659040"/>
            <a:ext cx="446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S (perpendicular to Q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676840" y="3651120"/>
          <a:ext cx="92412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76840" y="3651120"/>
                    <a:ext cx="924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513320" y="4565520"/>
          <a:ext cx="143820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13320" y="4565520"/>
                    <a:ext cx="1438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6086520" y="811080"/>
            <a:ext cx="26258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6:38Z</dcterms:modified>
  <cp:revision>107</cp:revision>
  <dc:subject/>
  <dc:title>PowerPoint Presentation</dc:title>
</cp:coreProperties>
</file>